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73888" cy="10158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urPbar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00"/>
                </a:solidFill>
                <a:latin typeface="Arial Black"/>
              </a:rPr>
              <a:t>          </a:t>
            </a:r>
            <a:r>
              <a:rPr b="0" i="1" lang="en-US" sz="1600" spc="-1" strike="noStrike">
                <a:solidFill>
                  <a:srgbClr val="0000cc"/>
                </a:solidFill>
                <a:latin typeface="Arial Black"/>
              </a:rPr>
              <a:t>SBS Conference and Plugfest8 Overview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rot="5397000">
            <a:off x="-1490040" y="2372760"/>
            <a:ext cx="340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</a:rPr>
              <a:t>SBS IF Developer’s Conference '99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BS Conference Overview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Takashi Furumura, Mitsubishi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rking Group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tibility, SMBus, Hand-Held, Charger, ACP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pen to all Conference participa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als for SBS specification revi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d, open discuss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5908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eroperability Testing</a:t>
            </a:r>
            <a:br>
              <a:rPr sz="4400"/>
            </a:b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&lt; Plugfest … only for SBS-IF members &gt;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</a:rPr>
              <a:t>23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nies participat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atte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rgers/Selecto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mbedded Controll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5908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sponse to Confere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nerally very positiv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ny suggestions/comments and session ideas offer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od interaction between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ny new peop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ral companies joined the  Implementers’ Foru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5908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BS Taipei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&lt; CompuDevCon &gt;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ww.compudevcon.com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e: Oct 30,1998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: Grand Formosa Regen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BS Japa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&lt; Conference and Plugfest8 &gt;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ate: Feb 16-18,1999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: SHUZENJI, IZU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oky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tendanc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00"/>
                </a:solidFill>
                <a:latin typeface="Arial"/>
              </a:rPr>
              <a:t>97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tende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resenting 51 Compan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rom all over the worl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3809880"/>
            <a:ext cx="708660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uk" descr=""/>
          <p:cNvPicPr/>
          <p:nvPr/>
        </p:nvPicPr>
        <p:blipFill>
          <a:blip r:embed="rId1"/>
          <a:stretch/>
        </p:blipFill>
        <p:spPr>
          <a:xfrm>
            <a:off x="5638680" y="5076720"/>
            <a:ext cx="1314720" cy="866880"/>
          </a:xfrm>
          <a:prstGeom prst="rect">
            <a:avLst/>
          </a:prstGeom>
          <a:ln w="0">
            <a:noFill/>
          </a:ln>
        </p:spPr>
      </p:pic>
      <p:pic>
        <p:nvPicPr>
          <p:cNvPr id="49" name="usa" descr=""/>
          <p:cNvPicPr/>
          <p:nvPr/>
        </p:nvPicPr>
        <p:blipFill>
          <a:blip r:embed="rId2"/>
          <a:stretch/>
        </p:blipFill>
        <p:spPr>
          <a:xfrm>
            <a:off x="7162920" y="510552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taiwan" descr=""/>
          <p:cNvPicPr/>
          <p:nvPr/>
        </p:nvPicPr>
        <p:blipFill>
          <a:blip r:embed="rId3"/>
          <a:stretch/>
        </p:blipFill>
        <p:spPr>
          <a:xfrm>
            <a:off x="4267080" y="5029200"/>
            <a:ext cx="1228680" cy="933480"/>
          </a:xfrm>
          <a:prstGeom prst="rect">
            <a:avLst/>
          </a:prstGeom>
          <a:ln w="0">
            <a:noFill/>
          </a:ln>
        </p:spPr>
      </p:pic>
      <p:pic>
        <p:nvPicPr>
          <p:cNvPr id="51" name="korea" descr=""/>
          <p:cNvPicPr/>
          <p:nvPr/>
        </p:nvPicPr>
        <p:blipFill>
          <a:blip r:embed="rId4"/>
          <a:stretch/>
        </p:blipFill>
        <p:spPr>
          <a:xfrm>
            <a:off x="2819520" y="4952880"/>
            <a:ext cx="1295280" cy="1028880"/>
          </a:xfrm>
          <a:prstGeom prst="rect">
            <a:avLst/>
          </a:prstGeom>
          <a:ln w="0">
            <a:noFill/>
          </a:ln>
        </p:spPr>
      </p:pic>
      <p:pic>
        <p:nvPicPr>
          <p:cNvPr id="52" name="japan" descr=""/>
          <p:cNvPicPr/>
          <p:nvPr/>
        </p:nvPicPr>
        <p:blipFill>
          <a:blip r:embed="rId5"/>
          <a:stretch/>
        </p:blipFill>
        <p:spPr>
          <a:xfrm>
            <a:off x="1447920" y="5029200"/>
            <a:ext cx="1304640" cy="971640"/>
          </a:xfrm>
          <a:prstGeom prst="rect">
            <a:avLst/>
          </a:prstGeom>
          <a:ln w="0">
            <a:noFill/>
          </a:ln>
        </p:spPr>
      </p:pic>
      <p:pic>
        <p:nvPicPr>
          <p:cNvPr id="53" name="israel" descr=""/>
          <p:cNvPicPr/>
          <p:nvPr/>
        </p:nvPicPr>
        <p:blipFill>
          <a:blip r:embed="rId6"/>
          <a:stretch/>
        </p:blipFill>
        <p:spPr>
          <a:xfrm>
            <a:off x="7010280" y="3962520"/>
            <a:ext cx="1285920" cy="1009440"/>
          </a:xfrm>
          <a:prstGeom prst="rect">
            <a:avLst/>
          </a:prstGeom>
          <a:ln w="0">
            <a:noFill/>
          </a:ln>
        </p:spPr>
      </p:pic>
      <p:pic>
        <p:nvPicPr>
          <p:cNvPr id="54" name="germany" descr=""/>
          <p:cNvPicPr/>
          <p:nvPr/>
        </p:nvPicPr>
        <p:blipFill>
          <a:blip r:embed="rId7"/>
          <a:stretch/>
        </p:blipFill>
        <p:spPr>
          <a:xfrm>
            <a:off x="4114800" y="3962520"/>
            <a:ext cx="1314360" cy="1028520"/>
          </a:xfrm>
          <a:prstGeom prst="rect">
            <a:avLst/>
          </a:prstGeom>
          <a:ln w="0">
            <a:noFill/>
          </a:ln>
        </p:spPr>
      </p:pic>
      <p:pic>
        <p:nvPicPr>
          <p:cNvPr id="55" name="hongkong" descr=""/>
          <p:cNvPicPr/>
          <p:nvPr/>
        </p:nvPicPr>
        <p:blipFill>
          <a:blip r:embed="rId8"/>
          <a:stretch/>
        </p:blipFill>
        <p:spPr>
          <a:xfrm>
            <a:off x="5638680" y="4038480"/>
            <a:ext cx="1143000" cy="962280"/>
          </a:xfrm>
          <a:prstGeom prst="rect">
            <a:avLst/>
          </a:prstGeom>
          <a:ln w="0">
            <a:noFill/>
          </a:ln>
        </p:spPr>
      </p:pic>
      <p:pic>
        <p:nvPicPr>
          <p:cNvPr id="56" name="france" descr=""/>
          <p:cNvPicPr/>
          <p:nvPr/>
        </p:nvPicPr>
        <p:blipFill>
          <a:blip r:embed="rId9"/>
          <a:stretch/>
        </p:blipFill>
        <p:spPr>
          <a:xfrm>
            <a:off x="2819520" y="4038480"/>
            <a:ext cx="1190520" cy="905040"/>
          </a:xfrm>
          <a:prstGeom prst="rect">
            <a:avLst/>
          </a:prstGeom>
          <a:ln w="0">
            <a:noFill/>
          </a:ln>
        </p:spPr>
      </p:pic>
      <p:pic>
        <p:nvPicPr>
          <p:cNvPr id="57" name="canada" descr=""/>
          <p:cNvPicPr/>
          <p:nvPr/>
        </p:nvPicPr>
        <p:blipFill>
          <a:blip r:embed="rId10"/>
          <a:stretch/>
        </p:blipFill>
        <p:spPr>
          <a:xfrm>
            <a:off x="1447920" y="4038480"/>
            <a:ext cx="1228680" cy="981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36232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cluding These Compan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SzPct val="14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OEM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rim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l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ujitsu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-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itach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iw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000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SzPct val="14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Smart Batter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SC/S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racell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ergizer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l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lyStor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2 Micr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af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oshiba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2057400"/>
            <a:ext cx="38098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33ff"/>
              </a:buClr>
              <a:buSzPct val="145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Black"/>
              </a:rPr>
              <a:t>Semis/Firmwar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nchmarq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el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KK Raychem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tsubish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otorol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S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hoenix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ystemSoft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A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5908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opics Cover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362320"/>
            <a:ext cx="3200400" cy="1676160"/>
          </a:xfrm>
          <a:prstGeom prst="horizontalScrol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rack On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Basic Smart Battery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Concepts &amp; Safet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038480"/>
            <a:ext cx="3200400" cy="1676520"/>
          </a:xfrm>
          <a:prstGeom prst="horizontalScrol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rack Tw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BS for Hand-Hel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2362320"/>
            <a:ext cx="3200400" cy="1676160"/>
          </a:xfrm>
          <a:prstGeom prst="horizontalScrol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rack Thre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CPI, SMBus &amp;</a:t>
            </a:r>
            <a:br>
              <a:rPr sz="24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bedded Controll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4038480"/>
            <a:ext cx="3200400" cy="1676520"/>
          </a:xfrm>
          <a:prstGeom prst="horizontalScroll">
            <a:avLst>
              <a:gd name="adj" fmla="val 12500"/>
            </a:avLst>
          </a:prstGeom>
          <a:solidFill>
            <a:srgbClr val="9933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General Addres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arketing, Trend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&amp; Test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5908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Keynote Addres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d by Sadao Fukatsu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rector, Systems Architecture, PC Technology &amp; Support Center of Fujitsu, Fujitsu Personal Systems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ebook tren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.4% growth in 1997, projected 16.6 in 1998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i-Ion battery trends - fast growth seg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tebook needs from batteries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arge Capacity and Cycle Lif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onger System Run-Tim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ong Term Reliabilit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r-Operability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multaneous Charge/Discharge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5908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ck On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fety/reliability issu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Bus as SBS and system control bu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ortance of implementing full Smart Battery data se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art Battery implement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mart Charge/Selector implementati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5908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ck Two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ndardization in Handhelds: Benefits for Users, OEMs, Battery &amp; IC suppli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posal for a battery data set specification and recent alternativ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sues in the battery-host physical Layer - proposals and issues to consi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5908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rack Thre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PI/SBS overview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ip-Set &amp; embedded controller architectures in ACPI system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PI EC in an SBS compatible system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signing an ACPI/SBS notebook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PI in Win 98 and Win NT 5.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9933ff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wer management policies &amp; implementation detail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59080" y="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ff00"/>
                </a:solidFill>
                <a:latin typeface="Arial"/>
              </a:rPr>
              <a:t>***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ast Conference &amp; Plugfest6 ***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6T17:06:50Z</dcterms:created>
  <dc:creator>Preferred Customer</dc:creator>
  <dc:description/>
  <dc:language>en-US</dc:language>
  <cp:lastModifiedBy>強太</cp:lastModifiedBy>
  <cp:lastPrinted>1998-10-22T23:51:49Z</cp:lastPrinted>
  <dcterms:modified xsi:type="dcterms:W3CDTF">1998-10-23T00:28:18Z</dcterms:modified>
  <cp:revision>15</cp:revision>
  <dc:subject/>
  <dc:title>Hawaii Conference Overview </dc:title>
</cp:coreProperties>
</file>